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78AE-2E7B-4F7A-8C77-E998F310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BC60-6C06-4324-A87F-318E5C11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8DC0-1100-416D-960E-050CB29A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AF00-6BDB-4E23-AF63-10DE949F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AB92-8FA9-44BA-8FFE-3D04010A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D6EE-07EA-4348-B0CC-838DA8C4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7BD7-546E-4655-8F6C-9F85D3CA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BD97-02F6-42D4-A9E1-AB4FA900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5650-CBD4-4737-BE11-70D9953F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9B13-A3DA-4094-9632-6DD882CF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1FE8-9392-4EB9-AAF7-35C5D675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85F5-3A4D-4FBC-AF8D-A5104669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D785-0170-44BA-8CC8-777AA194D5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5280" cy="6048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4 класс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кружающий мир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астениеводство в нашем кра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6408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алекой древности первобытный человек занимался охотой и собирательством. Ведь для того, чтобы жить , человеку надо есть. Успех охоты и собирательства во многом зависел от капризов по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от однажды женщины заметили, что в том месте, где обычно на каменной терке перетирали зерна. Выросли колоски с такими же зернами. Они догадались, что это проросли случайно рассыпанные зернышки. Попробовали специально рассыпать зерно – получилось, да еще как: где упало зерно, вырос целый колос, а то и несколько. Теперь уже можно выращивать зерна рядом с домом. А не бродить в поисках по лесам и лугам. Случалось так. Что мужчины. Убив на охоте дикую свинью. Приносили домой поросят. Детенышей помещали в пригон, кормили их, растили. Так возникли земледелие и скотовод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ли годы, совершенствовался человек, совершенствовалось земледелие, все разнообразнее становились растения, которые выращивал человек. Вырастить хороший урожай – дело не простое, для этого очень много надо знать. Знать, когда пахать землю. Когда сажать. Поливать. Что необходимо растениям для хорошего роста. Когда убирать созревшие пл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разведение  культурных сельскохозяйственных растений и их выращивание отвечает растениевод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337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тениеводство – наука о разведении культурных сельскохозяйственных растений, а  также само такое раз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И. Оже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Organization Chart 5"/>
          <p:cNvGrpSpPr/>
          <p:nvPr/>
        </p:nvGrpSpPr>
        <p:grpSpPr>
          <a:xfrm>
            <a:off x="395280" y="189000"/>
            <a:ext cx="8228880" cy="6262920"/>
            <a:chOff x="395280" y="189000"/>
            <a:chExt cx="8228880" cy="6262920"/>
          </a:xfrm>
        </p:grpSpPr>
        <p:cxnSp>
          <p:nvCxnSpPr>
            <p:cNvPr id="46" name="_s1028"/>
            <p:cNvCxnSpPr>
              <a:stCxn id="47" idx="3"/>
              <a:endCxn id="48" idx="2"/>
            </p:cNvCxnSpPr>
            <p:nvPr/>
          </p:nvCxnSpPr>
          <p:spPr>
            <a:xfrm flipV="1">
              <a:off x="4098240" y="1753920"/>
              <a:ext cx="411840" cy="156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1029"/>
            <p:cNvCxnSpPr>
              <a:stCxn id="50" idx="0"/>
              <a:endCxn id="48" idx="2"/>
            </p:cNvCxnSpPr>
            <p:nvPr/>
          </p:nvCxnSpPr>
          <p:spPr>
            <a:xfrm flipV="1" rot="16200000">
              <a:off x="4383360" y="1879560"/>
              <a:ext cx="3132360" cy="2880720"/>
            </a:xfrm>
            <a:prstGeom prst="bentConnector3">
              <a:avLst>
                <a:gd name="adj1" fmla="val 50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1030"/>
            <p:cNvCxnSpPr>
              <a:stCxn id="52" idx="0"/>
              <a:endCxn id="48" idx="2"/>
            </p:cNvCxnSpPr>
            <p:nvPr/>
          </p:nvCxnSpPr>
          <p:spPr>
            <a:xfrm flipV="1">
              <a:off x="4509360" y="1753920"/>
              <a:ext cx="3240" cy="313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31"/>
            <p:cNvCxnSpPr>
              <a:stCxn id="54" idx="0"/>
              <a:endCxn id="48" idx="2"/>
            </p:cNvCxnSpPr>
            <p:nvPr/>
          </p:nvCxnSpPr>
          <p:spPr>
            <a:xfrm flipH="1" flipV="1" rot="5400000">
              <a:off x="1503360" y="1879920"/>
              <a:ext cx="3132360" cy="2880720"/>
            </a:xfrm>
            <a:prstGeom prst="bentConnector3">
              <a:avLst>
                <a:gd name="adj1" fmla="val 50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8" name="_s1032"/>
            <p:cNvSpPr/>
            <p:nvPr/>
          </p:nvSpPr>
          <p:spPr>
            <a:xfrm>
              <a:off x="3275280" y="18900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астениеводст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395280" y="488628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воще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4"/>
            <p:cNvSpPr/>
            <p:nvPr/>
          </p:nvSpPr>
          <p:spPr>
            <a:xfrm>
              <a:off x="3275280" y="488628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лод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35"/>
            <p:cNvSpPr/>
            <p:nvPr/>
          </p:nvSpPr>
          <p:spPr>
            <a:xfrm>
              <a:off x="6155640" y="488628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Цвет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36"/>
            <p:cNvSpPr/>
            <p:nvPr/>
          </p:nvSpPr>
          <p:spPr>
            <a:xfrm>
              <a:off x="1629360" y="253764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оле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26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еводство – это выращивание полев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вощеводство – это выращивание овощн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одоводство – это выращивание плодов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ветоводство – это выращивание цветочн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g202"/>
          <p:cNvPicPr/>
          <p:nvPr/>
        </p:nvPicPr>
        <p:blipFill>
          <a:blip r:embed="rId1"/>
          <a:stretch/>
        </p:blipFill>
        <p:spPr>
          <a:xfrm>
            <a:off x="468360" y="1628640"/>
            <a:ext cx="797544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img203"/>
          <p:cNvPicPr/>
          <p:nvPr/>
        </p:nvPicPr>
        <p:blipFill>
          <a:blip r:embed="rId1"/>
          <a:stretch/>
        </p:blipFill>
        <p:spPr>
          <a:xfrm>
            <a:off x="468360" y="1413000"/>
            <a:ext cx="828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img204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mg205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07:21:17Z</dcterms:created>
  <dc:creator>User</dc:creator>
  <dc:description/>
  <dc:language>en-US</dc:language>
  <cp:lastModifiedBy>Owner</cp:lastModifiedBy>
  <dcterms:modified xsi:type="dcterms:W3CDTF">2012-06-01T02:44:25Z</dcterms:modified>
  <cp:revision>9</cp:revision>
  <dc:subject/>
  <dc:title>4 класс Окружающий мир. Растениеводство в нашем крае.</dc:title>
</cp:coreProperties>
</file>